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A38-AB39-4A5C-BAEA-18FA363F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A88-48B9-4EC5-93EC-CB8BB8F0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D53-4F88-40C4-81D9-868C0CBB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7A7-1A55-4DD5-8ABA-97D9CFBE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B22-F619-4A50-AD67-EF2810AE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BD5-579B-44DA-BE2F-2231F38B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004-A365-4A33-8789-3E212DCE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B52-AC06-4C94-92BE-FE2E633A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BEC5-0793-4792-B961-7CBFBA75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8CF-F87B-4A55-B2C4-01CBEF76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426-AC34-4AFF-BC90-C1E8C1CF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5F2-26F6-45B3-BD0B-E0FB1F0C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EC2A-BE55-4CB0-AC49-309CECC6743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Reflection 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reflection ess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ummary of the material studied in class that comes in a written form as your response/thoughts about what you’ve lear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what you have learned during the class and how it will assist you in achieving further academic and work related go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your strategies for capitalizing on your strengths and overcoming your weaknesses in order to become a successful write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What are included in a reflection paper?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iz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at happened (learning to write) in this clas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levant material (theories, concepts) learned from the cour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concept/idea/theory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at happened (your writing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Gramm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Rhetor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riting proc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riting topics discove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WLH char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onna Ogle, 198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 - Recall what you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KNE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bout the subject before the course start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 -  Recall what you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WA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 to learn in the beginning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 - Identify what you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LEAR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 so far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 -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you can learn more (e.g. other sources where additional information on the topic can be found; other practicing chanc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00040" y="3714840"/>
          <a:ext cx="8286840" cy="239400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2071800"/>
                <a:gridCol w="2071800"/>
              </a:tblGrid>
              <a:tr h="100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hat I K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hat I Wanted to K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hat I’ve Lea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ow I can Learn M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pers should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2 pages lo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bout 500 words)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ouble 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 formal language and correct spelling and punctu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pics have to be chosen and specifi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re can be one major, or several small topics in a reflection pap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ics reflected upon include any information covered in class or in the reading from the beginning of the semester to the pres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pers may t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 or  2 topics and examine them deep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ore topics examined in less detai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writing, consider the following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have I studied/learned that is interesting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new things have I learne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has my learning affected preconceptions or misconceptions I brought with me into class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hanges do I make based on what I newly lear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else do I want to lear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an I learn mor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a draft first that will give you an understanding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ow many and how long your paragraphs will b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hat is going to be the statement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hat facts you are going to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8T08:40:54Z</dcterms:created>
  <dc:creator>Windows 使用者</dc:creator>
  <dc:description/>
  <dc:language>en-US</dc:language>
  <cp:lastModifiedBy>Windows 使用者</cp:lastModifiedBy>
  <dcterms:modified xsi:type="dcterms:W3CDTF">2009-06-05T04:45:23Z</dcterms:modified>
  <cp:revision>13</cp:revision>
  <dc:subject/>
  <dc:title>投影片 1</dc:title>
</cp:coreProperties>
</file>